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2AF-F9D3-4C01-A5A4-A5692C43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333-0B78-444E-8649-5330EDD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7BF-E4AE-464B-BC0B-552D9EBF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A82-A878-424A-8161-9D38BCE5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3C0-37A4-40FB-B134-3F893505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D2A-2B37-4B54-B52A-AB98B417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70D-2160-43E8-9C12-AD43B01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456-F228-4D5A-B8B4-D5CA29D6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448-667B-404D-AF88-BDC40B1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463-F3B9-4009-A8F2-75B471F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CE7-483B-4FC3-A8E1-11A6554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0CC-BB49-4878-A1F8-94C321B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BDE-C4AB-4060-BE36-D76CBEE8E9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54DD-09B9-485A-9DE7-13C11134C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-233280"/>
            <a:ext cx="4608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6312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исполнения бюджета Кореличского района за первое полугодие 20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лана по основным доходным источникам, тыс. рубл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682560"/>
          <a:ext cx="8424720" cy="5004000"/>
        </p:xfrm>
        <a:graphic>
          <a:graphicData uri="http://schemas.openxmlformats.org/drawingml/2006/table">
            <a:tbl>
              <a:tblPr/>
              <a:tblGrid>
                <a:gridCol w="2552760"/>
                <a:gridCol w="1692360"/>
                <a:gridCol w="1195200"/>
                <a:gridCol w="1419120"/>
                <a:gridCol w="1565280"/>
              </a:tblGrid>
              <a:tr h="8985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годово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 уточненного пл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 в общем объеме 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66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48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ходный налог с физических ли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прибы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недвижим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бавленную стоим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4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4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при упрощенной системе налогообл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для производителей сельскохозяйственной проду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9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928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65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0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1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сходов бюджета Кореличского района, тыс. рублей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836640"/>
          <a:ext cx="8136000" cy="5371920"/>
        </p:xfrm>
        <a:graphic>
          <a:graphicData uri="http://schemas.openxmlformats.org/drawingml/2006/table">
            <a:tbl>
              <a:tblPr/>
              <a:tblGrid>
                <a:gridCol w="3289320"/>
                <a:gridCol w="1160280"/>
                <a:gridCol w="1171800"/>
                <a:gridCol w="1074600"/>
                <a:gridCol w="1440000"/>
              </a:tblGrid>
              <a:tr h="6922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расх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средст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 в общем объеме расходов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е органы общего 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0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1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ф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64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36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4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9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8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99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6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ые услуги и жилищное строитель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8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иво и энерге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долга Республики 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03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Номер слайда 3"/>
          <p:cNvSpPr/>
          <p:nvPr/>
        </p:nvSpPr>
        <p:spPr>
          <a:xfrm flipV="1">
            <a:off x="8101080" y="6452640"/>
            <a:ext cx="5745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программных расходов бюджета Кореличского района, тыс. руб.           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893880"/>
          <a:ext cx="8353440" cy="5414760"/>
        </p:xfrm>
        <a:graphic>
          <a:graphicData uri="http://schemas.openxmlformats.org/drawingml/2006/table">
            <a:tbl>
              <a:tblPr/>
              <a:tblGrid>
                <a:gridCol w="5253120"/>
                <a:gridCol w="1103040"/>
                <a:gridCol w="962280"/>
                <a:gridCol w="1035000"/>
              </a:tblGrid>
              <a:tr h="479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развития аграрного бизнеса в Республике Беларусь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по преодолению последствий катастрофы на Чернобыльской АЭС на 2011-2015 годы и на период до 2020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о социальной защите и содействии занятости населения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Здоровье народа и демографическая безопасность Республики Беларусь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6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98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Охрана окружающей среды и устойчивое использование природных ресурсов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Беларусь гостеприимная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Образование и молодежная политика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872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8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Культура Беларуси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12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развития физической культуры и спорта в Республике Беларусь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"Комфортное жилье и благоприятная среда"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92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«Строительство жилья»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развития транспортного комплекса Республики Беларусь на 2016-2020 г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рограмма на 2015-2020 годы по увековечиванию погибших при защите Отечества и сохранению памяти о жертвах вой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госпрограмм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24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06:42:43Z</dcterms:created>
  <dc:creator>Кучинская Ирина</dc:creator>
  <dc:description/>
  <dc:language>en-US</dc:language>
  <cp:lastModifiedBy>alexandr a. bazar</cp:lastModifiedBy>
  <cp:lastPrinted>2018-09-14T05:59:03Z</cp:lastPrinted>
  <dcterms:modified xsi:type="dcterms:W3CDTF">2018-09-14T08:39:24Z</dcterms:modified>
  <cp:revision>142</cp:revision>
  <dc:subject/>
  <dc:title>Исполнение бюджета Гродненского района за 2015 год</dc:title>
</cp:coreProperties>
</file>